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4A9B-EA0B-4C0A-AD6A-5EEC40BF3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F820-8C3D-4136-B7EE-1D96CF1DE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1CEC-D988-479A-B359-C7841685D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DFA5-8C20-41A8-B1EC-678CABA82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E90B-30F5-4602-98EC-BAD9F6B81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47CD-97C2-4178-A64F-D281D265C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8A55-B3B3-4452-A0DE-6610ECB9E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0E01-1314-414A-9051-F4FFCF2A0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25CE-2C30-432E-9FC8-9B6535773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50DC-EF8F-4BAC-9D53-4287D387D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8741-2183-425A-823A-19581EFCE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746A-5B1E-4797-8507-9E9B783AF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016F-9DBC-4368-9A12-EE10F46EA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2DF1-6E54-4A97-8E8A-6595C75B2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7793-5E23-4610-AFDE-1569437BC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B9F4-63EA-49B8-904A-2F4A4AABB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1078-CC0C-4FB5-86D6-12DB51587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ED3B-4A0E-4160-8D62-5B37AF8F6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B5A0-89DA-43A2-91C7-56628CA87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76A5-0E44-4901-A4F2-4E421C93F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2C5A-CDAF-449C-AD37-576C8E18E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3738-1FCF-48CE-94E9-A9E5A76A5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69D6-FC81-4D35-BAA2-87557CDBD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CD5A-DD92-410B-A70F-075377FFA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96B4-D280-42D3-97FD-9A2EA5517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2153-B9B7-464C-891C-40F9460E9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A050-09E8-4986-BAEE-D39D7158F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A3E9-D368-417E-8D43-E18B2F072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80C6-F072-49CB-9013-660EC07B7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2733-A930-4EF9-8A2D-73BA032F5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7D0B-152A-456F-B1C2-E9E40EFFC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D562-4209-4079-8505-06AC3BA78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FF6-470C-48A8-B9B0-D125259B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306-B599-4357-8497-D63463CB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F58B-3696-4243-B1BA-0EB9DC37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4D9-859B-450B-8C69-7134925A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8E53-35D4-4C8B-B1B7-4EABBCF6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6602-6151-4A55-98CC-FC9DE8F1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CE24-4A70-492B-9ADD-9F302979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124E-07F1-4EAB-9F14-864D6AA1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C918-049F-4D3E-AAB9-4B63F210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2512-0824-4287-8EE1-E84B9554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F4BD-FB82-4B6E-AD1D-F07FB90F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D95E-8F42-438B-9A65-FAC069E0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9D69-BCD6-4627-B71F-38E597A5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1FF1-566C-4A48-A178-9ADF4168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A7BA-A9A2-4487-A30B-7F128AD6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0B1B-A8AC-46AB-B9EF-073EF7CF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5586-70FC-46C1-B77B-B2AF9638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2AC-B4CA-4551-87E0-488A2B3C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42A-134A-4693-A1DB-719E223C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031-27AE-4431-A524-A8801DBD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1F4-8720-4BAE-A3CB-7E5B29A2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EDA-1D7E-478D-B5F5-0632F4C8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BAF-B650-4BA7-830C-0260E569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33F-AD43-4BFF-A2F7-DC98C555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DF73-9EC9-44D7-B29C-9DF561FA72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ADCB-03C6-4846-8DAC-676DC3BD7A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chool-Based Budget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, Spending, &amp;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9528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decisions in an autocratic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 teachers and other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a school-based management council consisting of parents, teachers, community members, classified employe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t Princip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d in planning, spending, and controlling local budgetary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ic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/control expenditures within income allocated to purchase music, instruments, uniforms, transportation cos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hletic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an individual as budget manager for area of athl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ll costs related to athletic programs (transportation, coach salaries, officials, uniforms, ticket takers, police, ambulance, doctors, and other expenses for meals and lodgings for athletes and coa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90920" y="1599840"/>
            <a:ext cx="6248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Level/Department Ch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manager for grade level or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rvice Director, Director of Custodial &amp; Maintenanc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 central office staff in determining the needs for their area and make these persons responsible for purchases within the budgetary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/Certified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n integral, important voice in all aspects of budgetary ma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and supplies necessary to do their support roles efficiently and eff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Office Administ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formation on newly available curriculum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importan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s funds, controls expenditures, and 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have a relationship that is interactive, positive, and produ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ntendent of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 Board of Ed. to approve school site-based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ing the cooperation of all centra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ing the decisions made at the building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or, innovator, cheerleader, and defender of site-based bu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-Based Budgeting:  Players &amp; Resour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formal approval to move to a site-base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ince community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d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Improvement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tucky Education Reform Act of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fairness in schools-base decisions which includes school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eds Assessme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tep in defining a gap or discrepancy between what is and what should or c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 all school building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each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Plans to meet identifie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 end products/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lationships between Central District &amp; Building Site Level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Expendi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p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ary al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Aud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cisions made for Building Site Leve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site-base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District Office base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budgetary decision making between the school site and central school district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cisions Related to: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ing and placement of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 Planning &amp; Expendi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 level- matters most directly affecting local school’s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level-Employee benefi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entral &amp; Site Level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ition the board of education to make exceptions or waivers to policies or standard operating procedures for just c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ources of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 District Inc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62320" y="2362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c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eder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-through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dgeting Issu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ing Cale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schoo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ed budgets-up to 5 years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ng # of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ort survival method of pupi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Employee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# of students with exact programs they will at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ment, Supplies, Material, &amp;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ment due to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eds Assess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ctivity to take place for future bu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mployees take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gaps between what is and what sh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ize identified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se action programs to eliminate existing g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dget Expenditur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ing Accounting &amp; Budget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legally overexpend its availabl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ions, transfers, expenditures, encumbrances, &amp; unemcumbered balances should be accurately recorded on a daily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dget Expenditur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uditor or Auditing fi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nion on the state of the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 to the board of education concerning its accounting records &amp;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asic Functions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 and resourc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of federal, state, and local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/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ditur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diture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is a gap or discrepancy between what is and what should or could b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WI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Cost of Identifie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ng the cost of each identified need for next 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’s Actions Related to Each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ot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pproved specific program ado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pproved with immediate program or budget adjustments made to satisfy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pproved when funding is mad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ng Student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students enrolled in each grade for 11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subsequent year’s number of students by previous years’ and grades’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verage percentage of survival for the 10 historical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average % of survival against each previous year to determine the number of students in each future year for each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ing Employee Requirements (5 yrs. Fu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ojections of student population to determine employees needed for each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in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do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ng Income Requirements (5 years into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ed # of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employees needed in each categ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expenses of schoo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estimate for operating the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DETERMINE income required fo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ources of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 District Inc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y of a minimum millage (mill=.001cents) or dollars per hundred dollars of assessed valuation in order to receive state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School District and School Site-Based Budgeting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ture of parents, citizens, teachers,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 evaluated and revised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ing the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budget cale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 for use to administ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-2 week period in summer &amp; update by Principal and Central Office Admini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ources of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hool District Inc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ources of School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ilding Level Inc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ster groups (Club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ra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3 Keys to Effective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dgetary Plann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education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anticipated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income to programs/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highest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3 Keys to Efficient Budget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-Gener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diture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cal Management Inform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 Activity Income Collection, Accounting, and Depo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ing Bills to Collect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-Sum Budge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ing and Audit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ypes of Budgeting System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/Object Budg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ditures are entered under a coded bas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, Planning, Budgeting, Evaluating System (PPB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-Based Budg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 every expenditure requested on the basis of a projected cost/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ypes of Budgeting System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-Based Bu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s decision-making power to the level closest to th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a variety of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-Sum Bu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all persons responsible for budget matters accountable for expenditures decisions and for keeping those decisions within the amount of money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allowing flexibility of expenditure decisions throughout the fisca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EURY</cp:lastModifiedBy>
  <dcterms:modified xsi:type="dcterms:W3CDTF">2008-06-26T16:15:31Z</dcterms:modified>
  <cp:revision>32</cp:revision>
  <dc:subject/>
  <dc:title>PowerPoint Presentation</dc:title>
</cp:coreProperties>
</file>